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A2F-17BB-4BC5-9FE4-E1C806C0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DCF-688E-481D-9CE5-0160BFB4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8ED-E3AC-4512-8CA7-0A4B31DC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0D4-207A-4CED-B9CC-AA3B4CE1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0D5-7738-47BA-9286-5C6CE62A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F4A3-274E-4E08-8302-D842E902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6D1-8682-4E3A-AE99-2930418E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DC6-F2DE-4DE3-A069-9B365C06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A42-CE89-4503-8F34-FBA4C0EA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4C9-84EC-43EA-83F1-9D3EF8E3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EA14-E1A2-4C2D-8A59-82E54C29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D25-F982-4138-B743-34679DE8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BE54-691E-4C5D-B76E-ED9C0E763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Участие в профессиональных конкурс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6162480"/>
            <a:ext cx="91440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Презентацию подготовила Ивершина Татьяна Михайл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учитель начальных классов МБОУ «Лешуконская СОШ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26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Методическое совещ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3800520" cy="537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47880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23320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8360" y="0"/>
            <a:ext cx="82296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23320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8360" y="0"/>
            <a:ext cx="82296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8229600" cy="296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229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29600" cy="3005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68360" y="1962000"/>
            <a:ext cx="8229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29600" cy="3357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8360" y="1773360"/>
            <a:ext cx="82296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29600" cy="371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95280" y="1844640"/>
            <a:ext cx="82296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ревнование с целью выявить из числа представленных наиболее достойных участников или наилучшие работы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по Ефремовой)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ревнование, имеющее целью выделить лучших участников, лучшие работы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по Ожегову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ревнование для выявления наилучших из числа участников, представленных работ и т. п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Энциклопедический слов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483552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Конкурс – это 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«Минусы»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профессиональных конк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в организации трудового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ссовость, напряженность ситу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«Плюсы»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профессиональных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компетенций педагогов, развитие творческого потенциала, приобщение к исследов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активной жизненной позиции, коммуникативных способностей, стремления к самосовершенствованию, самопозна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благоприятной мотивационной среды для профессионального развития педагог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дрение новых педагогических технологий в муниципальную сферу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ие рейтинга не только отдельного педагога, но и школы в целом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Методика оценки 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рофессиональной деятельности педагогов 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а установление квалификационных категор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4392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ктивное участие в проф. конкурс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8. Участие в проф. конкурсах (смотр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естивалях, соревнованиях, выстав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ф. мастерства и т.п.) на уровне ОО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муниципальном уров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9. Участие в проф. конкурсах (смотр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естивалях, соревнованиях, выстав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ф. мастерства и т.п.) на региональ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ли межрегиональном уров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10. Участие в профессиона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нкурсах (смотрах, фестиваля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ревнованиях, выставках про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стерства и т.п.) на федеральном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ждународном уров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00360" y="2421000"/>
            <a:ext cx="4392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ечень оснований для опре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ительных балл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астие в проф. конкурсах (смотр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естивалях, соревнованиях, выстав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ф. мастерства и т. п.) на уровне ОО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муниципальном уров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астие в проф. конкурсах (смотр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естивалях, соревнованиях, выстав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ф. мастерства и т. п.) на региональ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ли межрегиональном уров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астие в проф. конкурсах (смотр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естивалях, соревнованиях, выстав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ф. мастерства и т. п.) на федераль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ли международном уров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6256440"/>
            <a:ext cx="326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76560" y="6113520"/>
            <a:ext cx="268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916280"/>
            <a:ext cx="3672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Высшая категор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1844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Первая катег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4524480" cy="639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500720" y="260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4308480" cy="609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0" y="260280"/>
            <a:ext cx="437184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278600" cy="604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72000" y="260280"/>
            <a:ext cx="4329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4287960" cy="6062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638600" y="260280"/>
            <a:ext cx="450540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08:10:46Z</dcterms:created>
  <dc:creator>user</dc:creator>
  <dc:description/>
  <dc:language>en-US</dc:language>
  <cp:lastModifiedBy>user</cp:lastModifiedBy>
  <dcterms:modified xsi:type="dcterms:W3CDTF">2016-12-11T12:29:48Z</dcterms:modified>
  <cp:revision>3</cp:revision>
  <dc:subject/>
  <dc:title>Слайд 1</dc:title>
</cp:coreProperties>
</file>